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63425"/>
        <c:axId val="47432771"/>
      </c:barChart>
      <c:catAx>
        <c:axId val="89963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32771"/>
        <c:crosses val="autoZero"/>
        <c:auto val="1"/>
        <c:lblAlgn val="ctr"/>
        <c:lblOffset val="100"/>
        <c:noMultiLvlLbl val="0"/>
      </c:catAx>
      <c:valAx>
        <c:axId val="47432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63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E7D-9B55-4AAF-A65F-BBD159D0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498-4BFE-4D86-9EC0-3F6B7D45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9E5-EE2D-408F-AAD9-68C3F143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970-98DA-441E-A847-D9D8FFDE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3ED-BE77-4C7C-A00B-3DCDF5DC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F75-6B5F-4B1D-B19F-96A51BBE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DBF-6D12-4EF5-AD02-AECCB536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63B-8D23-4C1A-B895-5A82AAFB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E2F-8553-4754-BA6D-768B384D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CA7-0FF4-4A0A-87D1-3A5CDC6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8BF-02E9-4BBB-8D14-F8E224B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1CD-2F03-483A-8EEA-FEB307F4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ADE3D-7721-4AE5-A919-EEC8E5428A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