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54944"/>
        <c:axId val="63150838"/>
      </c:barChart>
      <c:catAx>
        <c:axId val="17654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0838"/>
        <c:crosses val="autoZero"/>
        <c:auto val="1"/>
        <c:lblAlgn val="ctr"/>
        <c:lblOffset val="100"/>
        <c:noMultiLvlLbl val="0"/>
      </c:catAx>
      <c:valAx>
        <c:axId val="63150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54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AB7-ABD7-4B47-9228-51F07E0F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3B0-46C1-4FEB-877E-E14884CC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F9A-959C-407C-8B36-70663BF5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F72-BBB2-4ADE-A8EA-5C4C1C3B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4FF-1AFD-4321-865B-FB1B4673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CB6-DE2F-4ACF-BF4E-874C8C8C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B0B-30A0-4CE7-B0C1-D94C8958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3BC-8D0B-4327-908F-02A05377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C2B-C80B-4813-9C21-C0829B83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8E1-DD73-4A27-B067-A432C24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C27-FDA7-4868-84B3-4D88E14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7C2-EBAD-486D-938C-ABBE3A0B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44E36-4EE8-465E-8974-7C0EE3CF2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