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74189"/>
        <c:axId val="89719637"/>
      </c:barChart>
      <c:catAx>
        <c:axId val="92874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19637"/>
        <c:crosses val="autoZero"/>
        <c:auto val="1"/>
        <c:lblAlgn val="ctr"/>
        <c:lblOffset val="100"/>
        <c:noMultiLvlLbl val="0"/>
      </c:catAx>
      <c:valAx>
        <c:axId val="89719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4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11F-98C0-4BAD-86B9-69D3B278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85B-F99D-46F5-A352-68FAF8D4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E1B-3EF5-4C2E-A522-8DEE7CD2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612-A0C6-4395-853A-9742E55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081-FF3A-4A2F-AE2E-B1D151A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091-E48C-421D-8150-7CFF5100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021-F351-4774-A57C-1440EC2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F6F-1C1C-45FC-BA2E-6385699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210-CE6A-42F5-B2BB-79E787C2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05A-C652-4150-BD40-D9DFEA3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BEE-D674-448D-A8D1-97C0FC8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58E-910B-40AA-BEEA-D3D6D52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06E2C-3337-453D-A9F5-400C8BE7B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