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213655"/>
        <c:axId val="75454311"/>
      </c:barChart>
      <c:catAx>
        <c:axId val="662136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454311"/>
        <c:crosses val="autoZero"/>
        <c:auto val="1"/>
        <c:lblAlgn val="ctr"/>
        <c:lblOffset val="100"/>
        <c:noMultiLvlLbl val="0"/>
      </c:catAx>
      <c:valAx>
        <c:axId val="754543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2136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E5C7-6885-4562-9A8B-B4EDBEAF8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CF5B-1192-4247-B674-744F2473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1066-C347-41AD-A615-9766D6685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A9D9-51C4-446C-8457-2E1B10397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A328-A1EF-4DB6-8F53-E09280F5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2EF4-3593-464A-8621-F5337A1E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9A65-C190-46F0-B131-F13EDB99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E6FB-7CBA-4B5D-9F92-82082859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BB8F-819B-49F7-B24E-179625A6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8BE6-6F02-4699-8DC6-0FD8FB3A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80FD-0377-4D37-B04F-EF94736D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6F30-EE5D-4ECC-BB9C-EADE11CB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55BAA8-BE31-4BD2-BA24-D38FE96F3E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