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72920"/>
        <c:axId val="72017326"/>
      </c:barChart>
      <c:catAx>
        <c:axId val="91372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17326"/>
        <c:crosses val="autoZero"/>
        <c:auto val="1"/>
        <c:lblAlgn val="ctr"/>
        <c:lblOffset val="100"/>
        <c:noMultiLvlLbl val="0"/>
      </c:catAx>
      <c:valAx>
        <c:axId val="72017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2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E68-79B1-4A58-A613-48DFAC3E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815-B866-4D4D-A664-9B97BD4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0FB-4DFB-46B2-A8B3-C0B6D614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409-1D79-4FFC-B8AE-D76F28BB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9EC-9CF3-448C-8B5C-F3CAF7E5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827-147F-4233-A339-6808A04B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A84-7D08-4D0D-8993-C6789EEC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770-FFFE-4C9E-9D60-D2ED0A05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054-9133-4006-B3A3-515BB240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7BD-D46B-4455-9D8D-5FFD47E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B9C-6420-4AFD-9AFF-4FF5DB1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B30-0FE8-47D6-B266-FA0E8995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6E9A5-6B59-489E-A32F-B08DC8CCDC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