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37734"/>
        <c:axId val="87603764"/>
      </c:barChart>
      <c:catAx>
        <c:axId val="16837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3764"/>
        <c:crosses val="autoZero"/>
        <c:auto val="1"/>
        <c:lblAlgn val="ctr"/>
        <c:lblOffset val="100"/>
        <c:noMultiLvlLbl val="0"/>
      </c:catAx>
      <c:valAx>
        <c:axId val="87603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37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D34-8D96-4EA4-ABC4-E67C40A8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394-6882-4265-8BAE-9E52682E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C4A-80C8-4616-8799-CAE8C5E4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C18-FCC7-4849-B36F-F81CBA24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583-301E-4F66-B9EE-E74F5B7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1E8-DEF6-4726-B38D-44E9DF6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C0F-6F20-492F-93AA-3691B2B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F59-E234-402E-B78E-2C5AA9E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407-2576-4CF0-B997-2EBB2F0D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ADB-B512-4BD4-BAA6-9641350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0E7-265A-4E09-80BF-5D75757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E2E-6F66-4B34-91E3-0A5655F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8F91A-667B-4776-9A13-6B8C54EAA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