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72806"/>
        <c:axId val="79316079"/>
      </c:barChart>
      <c:catAx>
        <c:axId val="49372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16079"/>
        <c:crosses val="autoZero"/>
        <c:auto val="1"/>
        <c:lblAlgn val="ctr"/>
        <c:lblOffset val="100"/>
        <c:noMultiLvlLbl val="0"/>
      </c:catAx>
      <c:valAx>
        <c:axId val="79316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2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435-2167-43D0-89D7-92FAE160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AD9-6E67-408F-913D-E1F7F367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5EF-F5E9-43EA-A71B-B87D885D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774-B71B-49AB-9823-A427A5D8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22C-9E36-4A30-9B4D-EA51E5DE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9F8-4750-492B-8B1C-0BC0C6F1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4DE-BD51-43B2-9400-E0972968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A5C-4A48-4DB7-B7ED-20695210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452-5487-422C-9696-81733D4C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3EF-2DCC-42E9-8A7B-823F3BAD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F6D-F95A-4455-BAC8-48CE3BE1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D33-485D-42D3-98C8-AE0099D7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56223-6950-4E66-80C1-4A06BB9E11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