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019953"/>
        <c:axId val="21853439"/>
      </c:barChart>
      <c:catAx>
        <c:axId val="160199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53439"/>
        <c:crosses val="autoZero"/>
        <c:auto val="1"/>
        <c:lblAlgn val="ctr"/>
        <c:lblOffset val="100"/>
        <c:noMultiLvlLbl val="0"/>
      </c:catAx>
      <c:valAx>
        <c:axId val="218534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0199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A356-1B44-4052-A79E-2B1AB5CA7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1349-3482-4FA3-94D7-D9522B58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10D2-1E78-4276-A992-B3AC59FEC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273B-B217-404E-9DCC-BFF29AEDA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C3EB-9268-412B-8E9A-F1C08927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7893-7C95-4E36-BF20-335834EC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5B32-0978-47EE-B270-AFCDBDCF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1951-9E53-425F-8D46-CC899129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874D-1ABB-4B3A-B506-B5A4B66E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409C-37F9-489A-9598-4C3F2627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84FE-1389-4057-A0A8-3AEFDFA6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B919-474C-4A44-9EC3-31A50CEE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1D535-5BA0-4019-A961-2097954285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