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92593"/>
        <c:axId val="60053148"/>
      </c:barChart>
      <c:catAx>
        <c:axId val="18792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53148"/>
        <c:crosses val="autoZero"/>
        <c:auto val="1"/>
        <c:lblAlgn val="ctr"/>
        <c:lblOffset val="100"/>
        <c:noMultiLvlLbl val="0"/>
      </c:catAx>
      <c:valAx>
        <c:axId val="60053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92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64C-98B8-40B5-93C1-F302D0EE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E11-6A6F-431C-B217-2D7489BB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FDC-EAAA-46D9-85A4-09EC6944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D10-2D25-424C-82EB-062481D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5B1-BE6F-40AD-85A9-4B27F41A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977-897B-48A5-9402-487E6C22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1CE-6F26-434F-96C6-9456B118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533-AA65-4971-ACD5-57A7AFBF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F59-75B8-40BC-9809-51C95D81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6BB-4424-4333-8D4E-95F5831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DE1-BBC4-4B3B-91A5-4223744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2E9-34FF-4BEC-9DF6-3344B632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A2ED4-D557-497F-8264-DD47AE76B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