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25019"/>
        <c:axId val="83539692"/>
      </c:barChart>
      <c:catAx>
        <c:axId val="80125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39692"/>
        <c:crosses val="autoZero"/>
        <c:auto val="1"/>
        <c:lblAlgn val="ctr"/>
        <c:lblOffset val="100"/>
        <c:noMultiLvlLbl val="0"/>
      </c:catAx>
      <c:valAx>
        <c:axId val="83539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25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196-876A-4F04-B6FF-D98634AF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B79-F7C1-411C-9444-79951C58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124-8194-4D14-9997-151A25DD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4F9-4230-488B-8E7C-F45865CD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92B-1E30-4360-A80E-139C0D0B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BB6-77F9-4FE0-B5B0-C37A1FD9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0E3-C5E2-44BB-AF49-012B63F2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63F-CBE2-436E-98C4-0A910A0E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B6A-D280-44A1-B26E-2BE309F1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274-083E-42ED-AE7F-82E1195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1DD-00AF-426F-8021-E57B2BDF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A14-C1E2-4940-854E-80A30263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05BC5-F3EB-42BE-B078-BF37B541E4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