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49525"/>
        <c:axId val="37978032"/>
      </c:barChart>
      <c:catAx>
        <c:axId val="87049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78032"/>
        <c:crosses val="autoZero"/>
        <c:auto val="1"/>
        <c:lblAlgn val="ctr"/>
        <c:lblOffset val="100"/>
        <c:noMultiLvlLbl val="0"/>
      </c:catAx>
      <c:valAx>
        <c:axId val="37978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49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1ED-68EC-4E6E-BF5F-58859251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4C3-C7E1-47BC-A950-8D22A12C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FF0-E37F-48F3-8D28-4BB99C46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B14-BA91-4754-9B24-AF56E2C0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E90-B518-476D-936E-71940812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F95-6026-48A8-A363-B21ABE5F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BF8-B597-4922-BB1F-F6094FDE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F29-89ED-47B6-A299-F0AD83E5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41D-558B-4859-B5C5-DF2EC625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23F-51D0-4635-A23D-25FEB54E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40B-4460-4D20-9028-E2D0EA0E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A59-8902-4988-822E-9CF4CE80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A3EF9-7959-45C2-8468-4CE4DBDE09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