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4659"/>
        <c:axId val="5294878"/>
      </c:barChart>
      <c:catAx>
        <c:axId val="2014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4878"/>
        <c:crosses val="autoZero"/>
        <c:auto val="1"/>
        <c:lblAlgn val="ctr"/>
        <c:lblOffset val="100"/>
        <c:noMultiLvlLbl val="0"/>
      </c:catAx>
      <c:valAx>
        <c:axId val="5294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4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397-D3A1-40C5-A993-0D2AC322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203-9FBA-486A-B94F-619B1BFF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4DC-E7A4-4ECB-B1FC-C9A8B72C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791-B494-4BFA-A9FC-7313BF00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C8C-0FB9-48EB-B57E-36C87163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206-DADA-4519-8E65-B62C6854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F93-D81E-45D1-A695-DD1529DC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C1B-7454-4D4B-ABA1-F7DC3220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936-A6AF-4002-8E80-C93D4CD2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C29-719F-49A2-B8D9-CABD95D6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1F49-3B7A-41F0-AC8C-67D54659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BB3-D49C-41A3-B836-0E2C453C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55AD9-B7D7-4BE1-A23F-7031CB0754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