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06203"/>
        <c:axId val="4764991"/>
      </c:barChart>
      <c:catAx>
        <c:axId val="32106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991"/>
        <c:crosses val="autoZero"/>
        <c:auto val="1"/>
        <c:lblAlgn val="ctr"/>
        <c:lblOffset val="100"/>
        <c:noMultiLvlLbl val="0"/>
      </c:catAx>
      <c:valAx>
        <c:axId val="4764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06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17B-828A-4BB0-AFB6-54F282A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877-60DF-40E7-BF01-FF00C191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053-3209-4871-8405-FB905405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4E4-976D-4E66-B2E6-5CC3C96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B5F4-B4A4-4C53-83AA-1F939E3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3E6-59B1-42ED-87BC-7F2281B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BBA-43BA-480F-B330-FFEEBE7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4A5-183D-4B49-8E43-05C93329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D93-729C-4331-872A-CA7C5C19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056-7C3B-421C-8278-FD5DEAE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55B-0E67-4431-A953-045CB60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73D-36D8-4EE7-93B5-BECC6218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C0611-8C7B-4D07-B466-1939B4C3B6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