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62541"/>
        <c:axId val="10508602"/>
      </c:barChart>
      <c:catAx>
        <c:axId val="56262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08602"/>
        <c:crosses val="autoZero"/>
        <c:auto val="1"/>
        <c:lblAlgn val="ctr"/>
        <c:lblOffset val="100"/>
        <c:noMultiLvlLbl val="0"/>
      </c:catAx>
      <c:valAx>
        <c:axId val="10508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62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96A-39CC-4315-B08F-1CC56CA6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376-E4C8-4490-ADAC-FFF7B714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64B-358D-4A4A-81D5-AAE84856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A97-BAB0-4EC6-A4C6-E17B53E1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BE2-B986-44D0-ACA0-0CE3C359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B0A-6A13-4646-898C-C4C5FB83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595-B23C-4441-B5BF-3BD3B02E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1B2-22E0-4C63-BEE5-1D99066B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CE4-FD6B-4506-BC3D-E2DC84A8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749-D3ED-4783-AFDA-95F7A632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8E6-0F94-43BA-81D2-EE1CE357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E2C-BA89-4379-A3CB-0D1956F0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FA540-DE7B-4730-9505-4B40F70385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