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90124"/>
        <c:axId val="75096269"/>
      </c:barChart>
      <c:catAx>
        <c:axId val="78990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96269"/>
        <c:crosses val="autoZero"/>
        <c:auto val="1"/>
        <c:lblAlgn val="ctr"/>
        <c:lblOffset val="100"/>
        <c:noMultiLvlLbl val="0"/>
      </c:catAx>
      <c:valAx>
        <c:axId val="75096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90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A76-E0F6-46CE-9910-E2D094EF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F89-19A0-4DA9-9839-930196C8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561-0A89-4394-BECF-5597F897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89C-E67E-41ED-B24A-760BEEDD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828-71F5-4813-8380-F27DA07E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86C-D6EE-4E72-9C7B-D4CEA15F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1A6-4259-427E-B913-446A0D10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4C5-472D-4AC4-8B6D-B1E3C581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517-0312-44E5-B7BC-8B37EF57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59C-0022-4DB5-9984-D7107954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73D-61F9-446A-8516-11B2CA2A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0BE-647F-4A8C-AEFC-41E643C6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27D86-AB61-4C70-85E0-965DFA6BA0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