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12014"/>
        <c:axId val="19556412"/>
      </c:barChart>
      <c:catAx>
        <c:axId val="53412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56412"/>
        <c:crosses val="autoZero"/>
        <c:auto val="1"/>
        <c:lblAlgn val="ctr"/>
        <c:lblOffset val="100"/>
        <c:noMultiLvlLbl val="0"/>
      </c:catAx>
      <c:valAx>
        <c:axId val="19556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2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9EC-E237-411B-B875-0FDD8202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6CE-62BA-4209-9DA0-3B3D73AF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06B-7450-4015-B731-CB2F4849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B80-9A59-4D55-BFDA-97479758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4D0-CBDC-4826-BFD6-32A23515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9CA-E789-4597-815D-50D3117A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C11-618B-4A73-935E-BA42CAF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8CF-4A46-49EF-9A2D-CFD964BF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2C9-4401-4066-A588-CFFEFBD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206-5AFE-49E3-8949-2139FAD1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BBC-F119-4C62-BB29-134712C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FF4-FB19-4859-ACB6-7299D80D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EED48-B72C-4F2A-BB87-D5D95C7148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