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39236"/>
        <c:axId val="56556808"/>
      </c:barChart>
      <c:catAx>
        <c:axId val="66339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56808"/>
        <c:crosses val="autoZero"/>
        <c:auto val="1"/>
        <c:lblAlgn val="ctr"/>
        <c:lblOffset val="100"/>
        <c:noMultiLvlLbl val="0"/>
      </c:catAx>
      <c:valAx>
        <c:axId val="565568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39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866-B7B7-421C-BBA7-F116F2E6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2D1-723B-4411-97FC-74189E87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2E26-CE46-43E7-A41C-82A979BE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A56-D404-4AB9-9969-58B9340A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E7A-36CE-4089-B19C-45A66865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6FF-1AF3-426A-8509-A8B2B22E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952E-78BC-422B-98EB-8C7AA80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2E00-C65D-4CBC-819F-D5A6EC56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8D7-0D49-403B-99B9-A1F11D78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B55-DE80-4C44-842E-D5EC6DD1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70C-B2E5-4C65-B87F-F2F21A4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F82-9E5B-4595-AF15-FF5BB631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A00BC-3BD0-487C-9CEF-92FF850368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