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65571"/>
        <c:axId val="43398026"/>
      </c:barChart>
      <c:catAx>
        <c:axId val="219655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98026"/>
        <c:crosses val="autoZero"/>
        <c:auto val="1"/>
        <c:lblAlgn val="ctr"/>
        <c:lblOffset val="100"/>
        <c:noMultiLvlLbl val="0"/>
      </c:catAx>
      <c:valAx>
        <c:axId val="43398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655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E8B-5DB3-448D-8FD9-C4DB55A8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04D-F352-4575-AE62-066A1785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6071-800B-468B-BB65-86CB8486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62D-DE1C-4814-8727-5741CBD7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E0E-AD7A-486E-B539-C05ECB82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F04C-599B-4FC6-99C8-DA7D6E7C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99A9-FAB1-4A2F-A670-DA395DBB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DBC-DB20-42FC-9CA7-6F3B0404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E20F-31E1-4A61-BB14-711EBBAA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7A63-ED81-4585-A391-963185D2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9AB-A677-4204-AF71-F8BBC4CB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128-49B7-4313-8735-CD4243F6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8A185-7073-4764-8C88-57286F3E51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