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148"/>
        <c:axId val="12830647"/>
      </c:barChart>
      <c:catAx>
        <c:axId val="5419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30647"/>
        <c:crosses val="autoZero"/>
        <c:auto val="1"/>
        <c:lblAlgn val="ctr"/>
        <c:lblOffset val="100"/>
        <c:noMultiLvlLbl val="0"/>
      </c:catAx>
      <c:valAx>
        <c:axId val="12830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C28-76FF-45AB-B3F0-7C8EB081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52C-831D-4F46-B7B5-E7A19CC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13E-A85D-4E94-B447-14027E15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5D8-D6ED-4171-A3C0-B9F41137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203-1B0B-40DE-8F47-019F9C08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F3E-B529-486E-9E0D-5CCC7A3B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B00-C16F-4B53-8835-DF16D4DB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67B-BFDB-47CA-A013-89D31CFE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BB8-7935-4DA2-9451-6ADD717D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7AB-2F76-4382-985C-30B9283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B9D-01C9-4E12-B60F-9E06AED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570-A2D2-4E73-A6B0-77855A19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BB15-016A-4604-B7E3-FAEA67B33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