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99949"/>
        <c:axId val="53769901"/>
      </c:barChart>
      <c:catAx>
        <c:axId val="89899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9901"/>
        <c:crosses val="autoZero"/>
        <c:auto val="1"/>
        <c:lblAlgn val="ctr"/>
        <c:lblOffset val="100"/>
        <c:noMultiLvlLbl val="0"/>
      </c:catAx>
      <c:valAx>
        <c:axId val="53769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99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754-5728-4D76-9C7E-D406A59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C7C-0B22-4B46-9B7E-E6390BBF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BCF-6BB2-4282-8FF4-7C56F280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BEF-4288-44C4-B329-B26043B1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A0E-634A-4B15-8DE4-72AA14D8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00A-ACCC-4AF8-9A65-9F8EA7B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255-9499-4928-9A8E-5D713781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8C7-48AF-4396-8DB5-5111283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346-36DB-44D4-A820-04138AE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C1C-4F23-4E86-B8A7-A149FB8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969-109D-4145-9309-7887BAF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9D5-4A36-4430-BBBD-91A8C3F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39333-4FEE-4B9C-BA26-285425508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