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61160"/>
        <c:axId val="71172810"/>
      </c:barChart>
      <c:catAx>
        <c:axId val="23861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72810"/>
        <c:crosses val="autoZero"/>
        <c:auto val="1"/>
        <c:lblAlgn val="ctr"/>
        <c:lblOffset val="100"/>
        <c:noMultiLvlLbl val="0"/>
      </c:catAx>
      <c:valAx>
        <c:axId val="71172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61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15A-3C55-44A5-A961-33B6A754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358-107B-437E-AE4A-ECD1216B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CD0-FAD4-418E-906E-181966FF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91F-B633-41A8-A4EA-BC8CC497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594-B8E0-4FC6-B948-86454D96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ED4-F5FA-4FF6-AB5D-7BE669C1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0E1-51DE-4DE3-AA3F-E0E46AAD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AD8-5BB9-483C-8B04-5181E963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E65-1652-4B4D-8BFC-7C6CAC12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55E-725E-4B47-A361-A865B4EA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CE9-4573-44B0-87AA-D489951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6C0-94BF-42F3-A02C-8056997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906BF-9647-475C-A7AD-F5E39CF6EC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