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138192"/>
        <c:axId val="27010400"/>
      </c:barChart>
      <c:catAx>
        <c:axId val="711381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10400"/>
        <c:crosses val="autoZero"/>
        <c:auto val="1"/>
        <c:lblAlgn val="ctr"/>
        <c:lblOffset val="100"/>
        <c:noMultiLvlLbl val="0"/>
      </c:catAx>
      <c:valAx>
        <c:axId val="270104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381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1774-ACD0-446A-98FE-E6303CBAF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A2CF-D5D5-4846-A75F-14555E65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A107-A17F-478F-AC2C-62639F9E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9003-B35C-4847-817E-0E01297FB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B164-C70A-4C04-BFE4-867F693D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3C21-2CB0-4E6C-AACB-D1CDA8F3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61B2-CEAF-4B7A-8CCE-8FBEC9B7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BCB9-6A4B-4868-A2D8-4ABCD6B7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8970-B8E7-42DA-8F0B-CE61B24C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5667-DDC7-407F-9725-AC94A8A7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EC5B-85BE-4714-B1E0-F85CD930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5F22-9FEE-4ED4-A845-ED4B954B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ED32D-7596-4A33-8EEF-EF97497D41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