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006446"/>
        <c:axId val="37119023"/>
      </c:barChart>
      <c:catAx>
        <c:axId val="760064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19023"/>
        <c:crosses val="autoZero"/>
        <c:auto val="1"/>
        <c:lblAlgn val="ctr"/>
        <c:lblOffset val="100"/>
        <c:noMultiLvlLbl val="0"/>
      </c:catAx>
      <c:valAx>
        <c:axId val="371190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064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9644-514F-48D2-AAF1-76A332FC0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1C00-988D-49EB-8952-D9C65202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A103-F901-4C86-9A02-44F8831D1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338A-0979-40F0-ADFD-4FB8E389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F258-8603-416D-9E24-34E5BF1C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5372-3D3F-4298-BDA7-2F0B7D2C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081C-2564-417C-B251-76559575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DA49-1A9F-478B-A5C0-4271C6B2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95D2-DB65-45FA-918A-104FA134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5BAE-7895-4B15-AD19-916A8564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0E5B-BD5F-43AA-8083-D7570250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3423-3DC9-4A07-B617-FC4B02D3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ACA97-20F0-44AF-AF30-848D6E5C9F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