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06516"/>
        <c:axId val="13917829"/>
      </c:barChart>
      <c:catAx>
        <c:axId val="27606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17829"/>
        <c:crosses val="autoZero"/>
        <c:auto val="1"/>
        <c:lblAlgn val="ctr"/>
        <c:lblOffset val="100"/>
        <c:noMultiLvlLbl val="0"/>
      </c:catAx>
      <c:valAx>
        <c:axId val="13917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06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9A1-7017-4F82-8EA9-E2B6D37D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EC2-8743-4C37-8253-0736B8B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D75-39BC-40A6-8BD0-F92509EA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9D6-7596-410B-A5EE-E4568177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252-5F50-414F-9B17-D89471F3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2F7-F286-40D5-BC02-62FAE37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E8D-B583-4658-9179-18F1118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47A-1998-4FDD-9546-DD03FC00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BB8-B3EE-4D42-B0BE-48ED591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336-BEF7-43C8-8560-3A15DDA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F53-468D-4C92-B5E7-FF8586AE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A7E-602C-4409-811B-5245841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F18F5-4575-4801-B5D1-CF7D77ED3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