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24231"/>
        <c:axId val="85844520"/>
      </c:barChart>
      <c:catAx>
        <c:axId val="54524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44520"/>
        <c:crosses val="autoZero"/>
        <c:auto val="1"/>
        <c:lblAlgn val="ctr"/>
        <c:lblOffset val="100"/>
        <c:noMultiLvlLbl val="0"/>
      </c:catAx>
      <c:valAx>
        <c:axId val="85844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24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432-AFC2-459E-B234-5D07A4E5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D53-213C-4643-96AC-E26BF827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A80-F073-46FF-9C70-D8522F48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C2F-A5B3-4304-86B7-97173798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F4C-A6A5-4000-8B76-7F3EDE2A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EAF-A501-4AB4-906D-2285BD8B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31D-038F-4DC9-92E3-2FBA1E3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188-41DC-4646-ABAA-3F2C0E9C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754-F23E-4EDF-AE80-12548ABE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E74-E273-441A-820C-61AF611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614-4D91-410E-89CF-DF04053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7B7-1B71-4472-A788-A5ABC004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1EAF1-E77E-4296-9328-0926839E8E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