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509363"/>
        <c:axId val="47307470"/>
      </c:barChart>
      <c:catAx>
        <c:axId val="795093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307470"/>
        <c:crosses val="autoZero"/>
        <c:auto val="1"/>
        <c:lblAlgn val="ctr"/>
        <c:lblOffset val="100"/>
        <c:noMultiLvlLbl val="0"/>
      </c:catAx>
      <c:valAx>
        <c:axId val="473074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5093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C41E-F670-4200-8194-497680C27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DC26-8C3F-4683-B238-46A89BBB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8B42-1E57-41DE-8897-7C76910E9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3CE3-36EE-41FA-B84A-9064CE4D3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BA8E-28DC-4CCC-AE1E-A31B6724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7304-3DD6-482A-AFE5-158D778D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CE3C-A91D-4073-8BD4-BBDE9FE4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D327-333F-4D0F-BFDE-871E2C3E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E784-1812-4845-BC36-8290ECD4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D859-2079-4DAE-93D3-6DDC5CF6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9591-F6B0-4BDF-9A37-2760C955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203C-FFA1-4533-A0C8-3557D178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745484-E08B-4A54-90AF-2B621367D4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