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4120"/>
        <c:axId val="46887390"/>
      </c:barChart>
      <c:catAx>
        <c:axId val="55354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87390"/>
        <c:crosses val="autoZero"/>
        <c:auto val="1"/>
        <c:lblAlgn val="ctr"/>
        <c:lblOffset val="100"/>
        <c:noMultiLvlLbl val="0"/>
      </c:catAx>
      <c:valAx>
        <c:axId val="46887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4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894-7F1F-4C88-9888-03B756F1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26B-D078-498C-9CB2-A630F0D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3B4-62B1-43DB-90A1-7D38B7A6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EAF-3BBA-49DF-B097-5C71F518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E56-6C7D-4009-B23C-49D9912E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1B04-C27D-4D18-932F-D89A0B81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7D2-75ED-4D23-9C58-0FC91347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EAD-54B9-494D-A050-DFDDC95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D1E-E50F-4457-84EB-DEB5650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EF5-0A15-42F4-B0F3-8F22EF7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294-1DCB-4220-8972-6CDB9A6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2BA-D08C-4AB9-A899-DDD0E29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59D81-63F3-4897-AF8B-C9956E9010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