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1479"/>
        <c:axId val="85323319"/>
      </c:barChart>
      <c:catAx>
        <c:axId val="5381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23319"/>
        <c:crosses val="autoZero"/>
        <c:auto val="1"/>
        <c:lblAlgn val="ctr"/>
        <c:lblOffset val="100"/>
        <c:noMultiLvlLbl val="0"/>
      </c:catAx>
      <c:valAx>
        <c:axId val="85323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1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2DA3-3238-493A-800F-DE5D428A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C65-B789-46EE-86EE-0B3EDDA1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6EE-338E-409C-B094-AB57D7B1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549-2BAC-41F0-8C97-931AA2BB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238-0F2B-4894-8223-B549F4F2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DAB7-2165-4B11-BCDF-B9436FBF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FBE-B45F-4D29-AA81-65CD416C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08C-CAB8-4520-9220-8DF72C5F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FE6-D923-4571-8238-3D69C5B7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D129-7255-4D9E-8975-31F4FBC1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A67-321A-43A7-AC72-DD9CC169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8486-F5BC-4F5A-83E7-7279836F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11337-4C26-41AA-A879-A8522B5042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